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B47B5E-1EFD-47A4-8827-D0A1C21461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FD7617-BC04-4A70-84EF-E8649FC8DF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DC62D7-EEA1-48F2-83BD-0883D3460B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87B482-91CE-4778-8723-BCFA903F91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44B11B-8ECA-400D-97F2-BF388F7E66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47A2F3-8DEC-46B4-9C21-328AF1B462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E3D8C4-03B1-4E3B-BBB2-0ABA081EA4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48BDCD-FB76-4AD0-BBE5-EC963EE199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DB494A-D072-4928-9B09-7A3473E9FB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1CAA8-08AB-4B95-8F36-C43D5BBF20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1997B-92CB-43CB-9CEE-6B7935AE5F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15D85-4BBE-4BBC-A07F-28E7313ECB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69EAD-E50D-46FA-BE66-8E1DEEA4A93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http://graficogadda.wikispaces.com/file/view/mappamondo.gif/174540711/mappamondo.gif"/>
          <p:cNvPicPr/>
          <p:nvPr/>
        </p:nvPicPr>
        <p:blipFill>
          <a:blip r:embed="rId1"/>
          <a:stretch/>
        </p:blipFill>
        <p:spPr>
          <a:xfrm>
            <a:off x="0" y="160200"/>
            <a:ext cx="9144000" cy="6697800"/>
          </a:xfrm>
          <a:prstGeom prst="rect">
            <a:avLst/>
          </a:prstGeom>
          <a:ln w="0">
            <a:noFill/>
          </a:ln>
        </p:spPr>
      </p:pic>
      <p:sp>
        <p:nvSpPr>
          <p:cNvPr id="42" name="AutoShape 13"/>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 name="AutoShape 15"/>
          <p:cNvSpPr/>
          <p:nvPr/>
        </p:nvSpPr>
        <p:spPr>
          <a:xfrm>
            <a:off x="307800" y="7920"/>
            <a:ext cx="304920" cy="304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 name="AutoShape 17"/>
          <p:cNvSpPr/>
          <p:nvPr/>
        </p:nvSpPr>
        <p:spPr>
          <a:xfrm>
            <a:off x="460440" y="160200"/>
            <a:ext cx="304560" cy="304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 name="Rettangolo arrotondato 13"/>
          <p:cNvSpPr/>
          <p:nvPr/>
        </p:nvSpPr>
        <p:spPr>
          <a:xfrm>
            <a:off x="1403280" y="1863720"/>
            <a:ext cx="360360" cy="174600"/>
          </a:xfrm>
          <a:prstGeom prst="roundRect">
            <a:avLst>
              <a:gd name="adj" fmla="val 16667"/>
            </a:avLst>
          </a:prstGeom>
          <a:solidFill>
            <a:srgbClr val="00b0f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Rettangolo arrotondato 14"/>
          <p:cNvSpPr/>
          <p:nvPr/>
        </p:nvSpPr>
        <p:spPr>
          <a:xfrm>
            <a:off x="2050920" y="1863720"/>
            <a:ext cx="360360" cy="174600"/>
          </a:xfrm>
          <a:prstGeom prst="roundRect">
            <a:avLst>
              <a:gd name="adj" fmla="val 16667"/>
            </a:avLst>
          </a:prstGeom>
          <a:solidFill>
            <a:srgbClr val="00b0f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Rettangolo arrotondato 15"/>
          <p:cNvSpPr/>
          <p:nvPr/>
        </p:nvSpPr>
        <p:spPr>
          <a:xfrm>
            <a:off x="2712960" y="1863720"/>
            <a:ext cx="419040" cy="174600"/>
          </a:xfrm>
          <a:prstGeom prst="roundRect">
            <a:avLst>
              <a:gd name="adj" fmla="val 16667"/>
            </a:avLst>
          </a:prstGeom>
          <a:solidFill>
            <a:srgbClr val="00b0f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 name="Rettangolo arrotondato 16"/>
          <p:cNvSpPr/>
          <p:nvPr/>
        </p:nvSpPr>
        <p:spPr>
          <a:xfrm>
            <a:off x="3564000" y="1863720"/>
            <a:ext cx="647640" cy="174600"/>
          </a:xfrm>
          <a:prstGeom prst="roundRect">
            <a:avLst>
              <a:gd name="adj" fmla="val 16667"/>
            </a:avLst>
          </a:prstGeom>
          <a:solidFill>
            <a:srgbClr val="00b0f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Figura a mano libera 17"/>
          <p:cNvSpPr/>
          <p:nvPr/>
        </p:nvSpPr>
        <p:spPr>
          <a:xfrm>
            <a:off x="4417920" y="1584360"/>
            <a:ext cx="825480" cy="579240"/>
          </a:xfrm>
          <a:custGeom>
            <a:avLst/>
            <a:gdLst/>
            <a:ahLst/>
            <a:rect l="l" t="t" r="r" b="b"/>
            <a:pathLst>
              <a:path w="826058" h="579249">
                <a:moveTo>
                  <a:pt x="70926" y="57267"/>
                </a:moveTo>
                <a:cubicBezTo>
                  <a:pt x="12044" y="140394"/>
                  <a:pt x="-53765" y="490221"/>
                  <a:pt x="70926" y="556030"/>
                </a:cubicBezTo>
                <a:cubicBezTo>
                  <a:pt x="195617" y="621839"/>
                  <a:pt x="760189" y="535248"/>
                  <a:pt x="819071" y="452121"/>
                </a:cubicBezTo>
                <a:cubicBezTo>
                  <a:pt x="877953" y="368994"/>
                  <a:pt x="548908" y="126540"/>
                  <a:pt x="424217" y="57267"/>
                </a:cubicBezTo>
                <a:cubicBezTo>
                  <a:pt x="299526" y="-12006"/>
                  <a:pt x="129808" y="-25860"/>
                  <a:pt x="70926" y="57267"/>
                </a:cubicBezTo>
                <a:close/>
              </a:path>
            </a:pathLst>
          </a:custGeom>
          <a:solidFill>
            <a:srgbClr val="00b0f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0" name="Figura a mano libera 22"/>
          <p:cNvSpPr/>
          <p:nvPr/>
        </p:nvSpPr>
        <p:spPr>
          <a:xfrm>
            <a:off x="993600" y="1892160"/>
            <a:ext cx="2422800" cy="1573200"/>
          </a:xfrm>
          <a:custGeom>
            <a:avLst/>
            <a:gdLst/>
            <a:ahLst/>
            <a:rect l="l" t="t" r="r" b="b"/>
            <a:pathLst>
              <a:path w="2421603" h="1573670">
                <a:moveTo>
                  <a:pt x="2351427" y="310650"/>
                </a:moveTo>
                <a:cubicBezTo>
                  <a:pt x="2154000" y="553104"/>
                  <a:pt x="1114909" y="1360131"/>
                  <a:pt x="730445" y="1515995"/>
                </a:cubicBezTo>
                <a:cubicBezTo>
                  <a:pt x="345981" y="1671859"/>
                  <a:pt x="-152782" y="1488286"/>
                  <a:pt x="44645" y="1245832"/>
                </a:cubicBezTo>
                <a:cubicBezTo>
                  <a:pt x="242072" y="1003378"/>
                  <a:pt x="1523618" y="217132"/>
                  <a:pt x="1915009" y="61268"/>
                </a:cubicBezTo>
                <a:cubicBezTo>
                  <a:pt x="2306400" y="-94596"/>
                  <a:pt x="2548854" y="68196"/>
                  <a:pt x="2351427" y="310650"/>
                </a:cubicBezTo>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1" name="Figura a mano libera 23"/>
          <p:cNvSpPr/>
          <p:nvPr/>
        </p:nvSpPr>
        <p:spPr>
          <a:xfrm>
            <a:off x="3327480" y="773280"/>
            <a:ext cx="1920960" cy="852480"/>
          </a:xfrm>
          <a:custGeom>
            <a:avLst/>
            <a:gdLst/>
            <a:ahLst/>
            <a:rect l="l" t="t" r="r" b="b"/>
            <a:pathLst>
              <a:path w="1920252" h="852193">
                <a:moveTo>
                  <a:pt x="18172" y="743737"/>
                </a:moveTo>
                <a:cubicBezTo>
                  <a:pt x="115154" y="622510"/>
                  <a:pt x="804417" y="161846"/>
                  <a:pt x="1119608" y="57937"/>
                </a:cubicBezTo>
                <a:cubicBezTo>
                  <a:pt x="1434799" y="-45972"/>
                  <a:pt x="2006299" y="-945"/>
                  <a:pt x="1909317" y="120282"/>
                </a:cubicBezTo>
                <a:cubicBezTo>
                  <a:pt x="1812335" y="241509"/>
                  <a:pt x="845981" y="677927"/>
                  <a:pt x="537717" y="785300"/>
                </a:cubicBezTo>
                <a:cubicBezTo>
                  <a:pt x="229453" y="892673"/>
                  <a:pt x="-78810" y="864964"/>
                  <a:pt x="18172" y="743737"/>
                </a:cubicBezTo>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2" name="Figura a mano libera 25"/>
          <p:cNvSpPr/>
          <p:nvPr/>
        </p:nvSpPr>
        <p:spPr>
          <a:xfrm>
            <a:off x="690480" y="1508040"/>
            <a:ext cx="5176800" cy="1111320"/>
          </a:xfrm>
          <a:custGeom>
            <a:avLst/>
            <a:gdLst/>
            <a:ahLst/>
            <a:rect l="l" t="t" r="r" b="b"/>
            <a:pathLst>
              <a:path w="4948503" h="1111181">
                <a:moveTo>
                  <a:pt x="3943283" y="51214"/>
                </a:moveTo>
                <a:cubicBezTo>
                  <a:pt x="4687965" y="127414"/>
                  <a:pt x="5003156" y="352551"/>
                  <a:pt x="4940811" y="529196"/>
                </a:cubicBezTo>
                <a:cubicBezTo>
                  <a:pt x="4878466" y="705842"/>
                  <a:pt x="4331211" y="1104160"/>
                  <a:pt x="3569211" y="1111087"/>
                </a:cubicBezTo>
                <a:cubicBezTo>
                  <a:pt x="2807211" y="1118014"/>
                  <a:pt x="884893" y="743942"/>
                  <a:pt x="368811" y="570760"/>
                </a:cubicBezTo>
                <a:cubicBezTo>
                  <a:pt x="-147271" y="397578"/>
                  <a:pt x="-129953" y="158587"/>
                  <a:pt x="472720" y="71996"/>
                </a:cubicBezTo>
                <a:cubicBezTo>
                  <a:pt x="1075393" y="-14595"/>
                  <a:pt x="3198601" y="-24986"/>
                  <a:pt x="3943283" y="51214"/>
                </a:cubicBezTo>
                <a:close/>
              </a:path>
            </a:pathLst>
          </a:custGeom>
          <a:solidFill>
            <a:srgbClr val="003366"/>
          </a:solidFill>
          <a:ln w="25560">
            <a:solidFill>
              <a:srgbClr val="66669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3" name="Rettangolo arrotondato 26"/>
          <p:cNvSpPr/>
          <p:nvPr/>
        </p:nvSpPr>
        <p:spPr>
          <a:xfrm>
            <a:off x="1187280" y="1733400"/>
            <a:ext cx="3100680" cy="217800"/>
          </a:xfrm>
          <a:prstGeom prst="roundRect">
            <a:avLst>
              <a:gd name="adj" fmla="val 16667"/>
            </a:avLst>
          </a:prstGeom>
          <a:solidFill>
            <a:srgbClr val="00b0f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Rettangolo 28"/>
          <p:cNvSpPr/>
          <p:nvPr/>
        </p:nvSpPr>
        <p:spPr>
          <a:xfrm>
            <a:off x="1584360" y="1733400"/>
            <a:ext cx="466560" cy="217800"/>
          </a:xfrm>
          <a:prstGeom prst="rect">
            <a:avLst/>
          </a:prstGeom>
          <a:solidFill>
            <a:srgbClr val="003366"/>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 name="Rettangolo arrotondato 29"/>
          <p:cNvSpPr/>
          <p:nvPr/>
        </p:nvSpPr>
        <p:spPr>
          <a:xfrm>
            <a:off x="2411280" y="1733400"/>
            <a:ext cx="511200" cy="217800"/>
          </a:xfrm>
          <a:prstGeom prst="roundRect">
            <a:avLst>
              <a:gd name="adj" fmla="val 16667"/>
            </a:avLst>
          </a:prstGeom>
          <a:solidFill>
            <a:srgbClr val="003366"/>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Rettangolo arrotondato 30"/>
          <p:cNvSpPr/>
          <p:nvPr/>
        </p:nvSpPr>
        <p:spPr>
          <a:xfrm>
            <a:off x="3416400" y="1733400"/>
            <a:ext cx="471240" cy="217800"/>
          </a:xfrm>
          <a:prstGeom prst="roundRect">
            <a:avLst>
              <a:gd name="adj" fmla="val 16667"/>
            </a:avLst>
          </a:prstGeom>
          <a:solidFill>
            <a:srgbClr val="003366"/>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Figura a mano libera 1023"/>
          <p:cNvSpPr/>
          <p:nvPr/>
        </p:nvSpPr>
        <p:spPr>
          <a:xfrm>
            <a:off x="4795920" y="1604880"/>
            <a:ext cx="1071360" cy="687600"/>
          </a:xfrm>
          <a:custGeom>
            <a:avLst/>
            <a:gdLst/>
            <a:ahLst/>
            <a:rect l="l" t="t" r="r" b="b"/>
            <a:pathLst>
              <a:path w="861319" h="687010">
                <a:moveTo>
                  <a:pt x="67717" y="15689"/>
                </a:moveTo>
                <a:cubicBezTo>
                  <a:pt x="-46583" y="84962"/>
                  <a:pt x="-5019" y="542161"/>
                  <a:pt x="109281" y="639143"/>
                </a:cubicBezTo>
                <a:cubicBezTo>
                  <a:pt x="223581" y="736125"/>
                  <a:pt x="639217" y="666853"/>
                  <a:pt x="753517" y="597580"/>
                </a:cubicBezTo>
                <a:cubicBezTo>
                  <a:pt x="867817" y="528307"/>
                  <a:pt x="905917" y="323953"/>
                  <a:pt x="795081" y="223507"/>
                </a:cubicBezTo>
                <a:cubicBezTo>
                  <a:pt x="684245" y="123061"/>
                  <a:pt x="182017" y="-53584"/>
                  <a:pt x="67717" y="15689"/>
                </a:cubicBezTo>
                <a:close/>
              </a:path>
            </a:pathLst>
          </a:custGeom>
          <a:solidFill>
            <a:srgbClr val="0070c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58" name="Rettangolo 1024" descr=""/>
          <p:cNvPicPr/>
          <p:nvPr/>
        </p:nvPicPr>
        <p:blipFill>
          <a:blip r:embed="rId2"/>
          <a:stretch/>
        </p:blipFill>
        <p:spPr>
          <a:xfrm>
            <a:off x="1212840" y="5261040"/>
            <a:ext cx="6767640" cy="113328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ttangolo 1"/>
          <p:cNvSpPr/>
          <p:nvPr/>
        </p:nvSpPr>
        <p:spPr>
          <a:xfrm>
            <a:off x="971640" y="765000"/>
            <a:ext cx="734544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 generale, si può dire che l'Ebraismo si sia diffuso in tutto il mondo anche a seguito della dispersione degli ebrei iniziata all'epoca dell'Impero romano (Diaspor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ssieme al Cristianesimo e all'Islam, l'Ebraismo viene classificato come religione abramitica, in quanto Abramo rappresenta, per i fedeli delle tre confessioni, un comune patriarc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 name="Rettangolo 2"/>
          <p:cNvSpPr/>
          <p:nvPr/>
        </p:nvSpPr>
        <p:spPr>
          <a:xfrm>
            <a:off x="971640" y="3213000"/>
            <a:ext cx="482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709ac"/>
                </a:solidFill>
                <a:latin typeface="Comic Sans MS"/>
              </a:rPr>
              <a:t> </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marL="514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709ac"/>
                </a:solidFill>
                <a:latin typeface="Comic Sans MS"/>
              </a:rPr>
              <a:t> </a:t>
            </a:r>
            <a:r>
              <a:rPr b="0" lang="en-US" sz="2800" spc="-1" strike="noStrike">
                <a:solidFill>
                  <a:srgbClr val="c709ac"/>
                </a:solidFill>
                <a:latin typeface="Comic Sans MS"/>
              </a:rPr>
              <a:t>Fuso orario- Documenti-Aereoporti</a:t>
            </a:r>
            <a:endParaRPr b="0" lang="en-US" sz="2800" spc="-1" strike="noStrike">
              <a:solidFill>
                <a:srgbClr val="000000"/>
              </a:solidFill>
              <a:latin typeface="Calibri"/>
            </a:endParaRPr>
          </a:p>
        </p:txBody>
      </p:sp>
      <p:sp>
        <p:nvSpPr>
          <p:cNvPr id="78" name=""/>
          <p:cNvSpPr txBox="1"/>
          <p:nvPr/>
        </p:nvSpPr>
        <p:spPr>
          <a:xfrm>
            <a:off x="457200" y="1916280"/>
            <a:ext cx="8229600" cy="4209840"/>
          </a:xfrm>
          <a:prstGeom prst="rect">
            <a:avLst/>
          </a:prstGeom>
          <a:noFill/>
          <a:ln w="0">
            <a:noFill/>
          </a:ln>
        </p:spPr>
        <p:txBody>
          <a:bodyPr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1 ora rispetto all’Italia.</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ssaporto con validità di almeno sei mesi.</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 compagnie di bandiera El e Alitalia hanno voli diretti da Milano e Roma (circa tre ore e mezza di viaggio) per l’aeroporto Ben Gurioni di Tel Aviv. Neas ha invece partenze da Verona.</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709ac"/>
                </a:solidFill>
                <a:latin typeface="Comic Sans MS"/>
              </a:rPr>
              <a:t>Aspetto sanitario</a:t>
            </a:r>
            <a:endParaRPr b="0" lang="en-US" sz="2800" spc="-1" strike="noStrike">
              <a:solidFill>
                <a:srgbClr val="000000"/>
              </a:solidFill>
              <a:latin typeface="Calibri"/>
            </a:endParaRPr>
          </a:p>
        </p:txBody>
      </p:sp>
      <p:sp>
        <p:nvSpPr>
          <p:cNvPr id="80" name=""/>
          <p:cNvSpPr txBox="1"/>
          <p:nvPr/>
        </p:nvSpPr>
        <p:spPr>
          <a:xfrm>
            <a:off x="468360" y="1557360"/>
            <a:ext cx="8229600" cy="4525920"/>
          </a:xfrm>
          <a:prstGeom prst="rect">
            <a:avLst/>
          </a:prstGeom>
          <a:noFill/>
          <a:ln w="0">
            <a:noFill/>
          </a:ln>
        </p:spPr>
        <p:txBody>
          <a:bodyPr anchor="t">
            <a:normAutofit/>
          </a:bodyPr>
          <a:p>
            <a:pPr marL="343080" indent="-343080"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a situazione sanitaria nel paese è buona. In ogni caso le agenzie di viaggio consigliano di stipulare una polizza medica prima di partire. Alcune zone, per es. al confine con il Libano, sono considerate a rischio per la sicurezza e andrebbero evitate. In tutto il Paese è alto il rischio del terrorism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709ac"/>
                </a:solidFill>
                <a:latin typeface="Comic Sans MS"/>
              </a:rPr>
              <a:t>Periodo vacanza</a:t>
            </a:r>
            <a:endParaRPr b="0" lang="en-US" sz="2800" spc="-1" strike="noStrike">
              <a:solidFill>
                <a:srgbClr val="000000"/>
              </a:solidFill>
              <a:latin typeface="Calibri"/>
            </a:endParaRPr>
          </a:p>
        </p:txBody>
      </p:sp>
      <p:sp>
        <p:nvSpPr>
          <p:cNvPr id="82" name=""/>
          <p:cNvSpPr txBox="1"/>
          <p:nvPr/>
        </p:nvSpPr>
        <p:spPr>
          <a:xfrm>
            <a:off x="324000" y="1125000"/>
            <a:ext cx="8362800" cy="5000760"/>
          </a:xfrm>
          <a:prstGeom prst="rect">
            <a:avLst/>
          </a:prstGeom>
          <a:noFill/>
          <a:ln w="0">
            <a:noFill/>
          </a:ln>
        </p:spPr>
        <p:txBody>
          <a:bodyPr anchor="t">
            <a:normAutofit/>
          </a:bodyPr>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l clima è mediterraneo, quindi piacevole tutto l’anno. Il periodo migliore in assoluto è la primavera. Per il mare si può andare anche in piena  estate, ma all’interno del paese il caldo si fa sentire.</a:t>
            </a:r>
            <a:endParaRPr b="0" lang="en-US" sz="1800" spc="-1" strike="noStrike">
              <a:solidFill>
                <a:srgbClr val="000000"/>
              </a:solidFill>
              <a:latin typeface="Calibri"/>
            </a:endParaRPr>
          </a:p>
        </p:txBody>
      </p:sp>
      <p:pic>
        <p:nvPicPr>
          <p:cNvPr id="83" name="Picture 2" descr=""/>
          <p:cNvPicPr/>
          <p:nvPr/>
        </p:nvPicPr>
        <p:blipFill>
          <a:blip r:embed="rId1"/>
          <a:stretch/>
        </p:blipFill>
        <p:spPr>
          <a:xfrm>
            <a:off x="1957320" y="2637000"/>
            <a:ext cx="4973760" cy="4039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709ac"/>
                </a:solidFill>
                <a:latin typeface="Comic Sans MS"/>
              </a:rPr>
              <a:t>Cosa mettere in valigia</a:t>
            </a:r>
            <a:endParaRPr b="0" lang="en-US" sz="28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gliette a maniche corte, pantaloncini, sandali, scarpe sa spiaggia e costume da bagno se si decide di partire in estate. E comunque un giubbino o un maglione per il fresco delle notti all’interno, in montagna o nel deserto. In inverno abiti pesanti, impermeabile,  ombrello e sciarp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709ac"/>
                </a:solidFill>
                <a:latin typeface="Comic Sans MS"/>
              </a:rPr>
              <a:t>Cucina</a:t>
            </a:r>
            <a:endParaRPr b="0" lang="en-US" sz="32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l piatto tipico sono i falafel di origine araba: palline di ceci tritati aromatizzate da spezie e servite nella pita (il tipico pane) con verdure fresche e salse. Anche  l’humus, una purea di ceci cotti con sesamo, è un piatto tipico della cucina araba. Lo shawarma è invece carne di pecora o di tacchino cotta lentamente su un grande spiedo e servita con pita, salse e verdure. Ovviamente, soprattutto a Gerusalemme, sono molti i risoranti di cucina kosher, che seguono le regole dettate dalla religione in materia di cib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709ac"/>
                </a:solidFill>
                <a:latin typeface="Comic Sans MS"/>
              </a:rPr>
              <a:t>Acquisti</a:t>
            </a:r>
            <a:endParaRPr b="0" lang="en-US" sz="32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 shopping in  Israele è diverso a seconda del posto in cui ci si trova. Sul Mar Morto si trovano ottimi prodotti cosmetici derivati da fanghi e acque della zona. A Gerusalemme si possono acquistare ceramiche armene bianche e blu oppure oggetti artigianali in legno d’ulivo. A Tel Aviv si punta sull’abbigliamento degli stilisti israeliani o anche sulle opere d’arte dei giovani emergenti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709ac"/>
                </a:solidFill>
                <a:latin typeface="Comic Sans MS"/>
              </a:rPr>
              <a:t>Itinerario del viaggio</a:t>
            </a:r>
            <a:endParaRPr b="0" lang="en-US" sz="32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erusalemme: la capitale per gli Israeliani. Tra i monumenti principali ci sono la Moschea di Omar, la Basilica del Santo Sepolcro e il Tempio dell’Ascensione.</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azareth, la culla del Cristianesimo.</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el Aviv: è una città che ha appena compiuto il secolo di vita ed è un vivacissimo miscuglio tra tradizione e modernità. E’ un po’ la Miami israeliana con lunghe spiagge attorniate da grattacieli, luogo di ritrovo per molti giovani. Tel Aviv ospita diversi importanti Musei, tra i quali il Museo della Diaspora, ma è soprattutto la capitale della creatività con decine di gallerie che espongono le opere di talenti emergenti. Del municipio di Tel Aviv fa parte l’adiacente Jaffa, la cui parte vecchia risale al periodo ottomano, con antiche case di pietra, stretti vicoli e botteghe di artisti.</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er gli amanti dell’archeologia è d’obbligo una visita a Tzippori, un sito che risale al II secolo a.C. e che conserva importanti resti.</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lial, sul Mar Rosso, il più importante centro di villeggiatura israeliano: qui ci sono belle spiagge e tante occasioni di divertimento.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3" descr=""/>
          <p:cNvPicPr/>
          <p:nvPr/>
        </p:nvPicPr>
        <p:blipFill>
          <a:blip r:embed="rId1"/>
          <a:stretch/>
        </p:blipFill>
        <p:spPr>
          <a:xfrm>
            <a:off x="5724360" y="2824200"/>
            <a:ext cx="2710080" cy="2798640"/>
          </a:xfrm>
          <a:prstGeom prst="rect">
            <a:avLst/>
          </a:prstGeom>
          <a:ln w="0">
            <a:noFill/>
          </a:ln>
        </p:spPr>
      </p:pic>
      <p:sp>
        <p:nvSpPr>
          <p:cNvPr id="60" name="Rettangolo 2"/>
          <p:cNvSpPr/>
          <p:nvPr/>
        </p:nvSpPr>
        <p:spPr>
          <a:xfrm>
            <a:off x="539640" y="981000"/>
            <a:ext cx="5112000" cy="460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Comic Sans MS"/>
              </a:rPr>
              <a:t>INTRODUZIONE</a:t>
            </a:r>
            <a:endParaRPr b="0" lang="en-US" sz="2000" spc="-1" strike="noStrike">
              <a:solidFill>
                <a:srgbClr val="000000"/>
              </a:solidFill>
              <a:latin typeface="Calibri"/>
            </a:endParaRPr>
          </a:p>
          <a:p>
            <a:pPr marL="343080" indent="-343080">
              <a:lnSpc>
                <a:spcPct val="100000"/>
              </a:lnSpc>
              <a:buClr>
                <a:srgbClr val="ff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Comic Sans MS"/>
              </a:rPr>
              <a:t>CARTINA GEOGRAFICA (ISRAELE)</a:t>
            </a:r>
            <a:endParaRPr b="0" lang="en-US" sz="2000" spc="-1" strike="noStrike">
              <a:solidFill>
                <a:srgbClr val="000000"/>
              </a:solidFill>
              <a:latin typeface="Calibri"/>
            </a:endParaRPr>
          </a:p>
          <a:p>
            <a:pPr marL="343080" indent="-343080">
              <a:lnSpc>
                <a:spcPct val="100000"/>
              </a:lnSpc>
              <a:buClr>
                <a:srgbClr val="ff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Comic Sans MS"/>
              </a:rPr>
              <a:t>BANDIERA</a:t>
            </a:r>
            <a:endParaRPr b="0" lang="en-US" sz="2000" spc="-1" strike="noStrike">
              <a:solidFill>
                <a:srgbClr val="000000"/>
              </a:solidFill>
              <a:latin typeface="Calibri"/>
            </a:endParaRPr>
          </a:p>
          <a:p>
            <a:pPr marL="343080" indent="-343080">
              <a:lnSpc>
                <a:spcPct val="100000"/>
              </a:lnSpc>
              <a:buClr>
                <a:srgbClr val="ff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Comic Sans MS"/>
              </a:rPr>
              <a:t>INFORMAZIONI GENERALI</a:t>
            </a:r>
            <a:endParaRPr b="0" lang="en-US" sz="2000" spc="-1" strike="noStrike">
              <a:solidFill>
                <a:srgbClr val="000000"/>
              </a:solidFill>
              <a:latin typeface="Calibri"/>
            </a:endParaRPr>
          </a:p>
          <a:p>
            <a:pPr marL="343080" indent="-343080">
              <a:lnSpc>
                <a:spcPct val="100000"/>
              </a:lnSpc>
              <a:buClr>
                <a:srgbClr val="ff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Comic Sans MS"/>
              </a:rPr>
              <a:t>VALUTA</a:t>
            </a:r>
            <a:endParaRPr b="0" lang="en-US" sz="1800" spc="-1" strike="noStrike">
              <a:solidFill>
                <a:srgbClr val="000000"/>
              </a:solidFill>
              <a:latin typeface="Calibri"/>
            </a:endParaRPr>
          </a:p>
          <a:p>
            <a:pPr marL="343080" indent="-343080">
              <a:lnSpc>
                <a:spcPct val="100000"/>
              </a:lnSpc>
              <a:buClr>
                <a:srgbClr val="ff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Comic Sans MS"/>
              </a:rPr>
              <a:t>LINGUA</a:t>
            </a:r>
            <a:endParaRPr b="0" lang="en-US" sz="1800" spc="-1" strike="noStrike">
              <a:solidFill>
                <a:srgbClr val="000000"/>
              </a:solidFill>
              <a:latin typeface="Calibri"/>
            </a:endParaRPr>
          </a:p>
          <a:p>
            <a:pPr marL="343080" indent="-343080">
              <a:lnSpc>
                <a:spcPct val="100000"/>
              </a:lnSpc>
              <a:buClr>
                <a:srgbClr val="ff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Comic Sans MS"/>
              </a:rPr>
              <a:t>CLIMA</a:t>
            </a:r>
            <a:endParaRPr b="0" lang="en-US" sz="1800" spc="-1" strike="noStrike">
              <a:solidFill>
                <a:srgbClr val="000000"/>
              </a:solidFill>
              <a:latin typeface="Calibri"/>
            </a:endParaRPr>
          </a:p>
          <a:p>
            <a:pPr marL="343080" indent="-343080">
              <a:lnSpc>
                <a:spcPct val="100000"/>
              </a:lnSpc>
              <a:buClr>
                <a:srgbClr val="ff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Comic Sans MS"/>
              </a:rPr>
              <a:t>RELIGIONE</a:t>
            </a:r>
            <a:endParaRPr b="0" lang="en-US" sz="1800" spc="-1" strike="noStrike">
              <a:solidFill>
                <a:srgbClr val="000000"/>
              </a:solidFill>
              <a:latin typeface="Calibri"/>
            </a:endParaRPr>
          </a:p>
          <a:p>
            <a:pPr marL="343080" indent="-343080">
              <a:lnSpc>
                <a:spcPct val="100000"/>
              </a:lnSpc>
              <a:buClr>
                <a:srgbClr val="ff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Comic Sans MS"/>
              </a:rPr>
              <a:t>FUSO ORARIO</a:t>
            </a:r>
            <a:endParaRPr b="0" lang="en-US" sz="1800" spc="-1" strike="noStrike">
              <a:solidFill>
                <a:srgbClr val="000000"/>
              </a:solidFill>
              <a:latin typeface="Calibri"/>
            </a:endParaRPr>
          </a:p>
          <a:p>
            <a:pPr marL="343080" indent="-343080">
              <a:lnSpc>
                <a:spcPct val="100000"/>
              </a:lnSpc>
              <a:buClr>
                <a:srgbClr val="ff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Comic Sans MS"/>
              </a:rPr>
              <a:t>AEREOPORTI</a:t>
            </a:r>
            <a:endParaRPr b="0" lang="en-US" sz="1800" spc="-1" strike="noStrike">
              <a:solidFill>
                <a:srgbClr val="000000"/>
              </a:solidFill>
              <a:latin typeface="Calibri"/>
            </a:endParaRPr>
          </a:p>
          <a:p>
            <a:pPr marL="343080" indent="-343080">
              <a:lnSpc>
                <a:spcPct val="100000"/>
              </a:lnSpc>
              <a:buClr>
                <a:srgbClr val="ff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Comic Sans MS"/>
              </a:rPr>
              <a:t>ASPETTO SANITARIO</a:t>
            </a:r>
            <a:endParaRPr b="0" lang="en-US" sz="1800" spc="-1" strike="noStrike">
              <a:solidFill>
                <a:srgbClr val="000000"/>
              </a:solidFill>
              <a:latin typeface="Calibri"/>
            </a:endParaRPr>
          </a:p>
          <a:p>
            <a:pPr marL="343080" indent="-343080">
              <a:lnSpc>
                <a:spcPct val="100000"/>
              </a:lnSpc>
              <a:buClr>
                <a:srgbClr val="ff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Comic Sans MS"/>
              </a:rPr>
              <a:t>PERIODO  VACANZA</a:t>
            </a:r>
            <a:endParaRPr b="0" lang="en-US" sz="1800" spc="-1" strike="noStrike">
              <a:solidFill>
                <a:srgbClr val="000000"/>
              </a:solidFill>
              <a:latin typeface="Calibri"/>
            </a:endParaRPr>
          </a:p>
          <a:p>
            <a:pPr marL="343080" indent="-343080">
              <a:lnSpc>
                <a:spcPct val="100000"/>
              </a:lnSpc>
              <a:buClr>
                <a:srgbClr val="ff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Comic Sans MS"/>
              </a:rPr>
              <a:t>COSA METTERE IN VALIGIA</a:t>
            </a:r>
            <a:endParaRPr b="0" lang="en-US" sz="1800" spc="-1" strike="noStrike">
              <a:solidFill>
                <a:srgbClr val="000000"/>
              </a:solidFill>
              <a:latin typeface="Calibri"/>
            </a:endParaRPr>
          </a:p>
          <a:p>
            <a:pPr marL="343080" indent="-343080">
              <a:lnSpc>
                <a:spcPct val="100000"/>
              </a:lnSpc>
              <a:buClr>
                <a:srgbClr val="ff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Comic Sans MS"/>
              </a:rPr>
              <a:t>CUCINA</a:t>
            </a:r>
            <a:endParaRPr b="0" lang="en-US" sz="1800" spc="-1" strike="noStrike">
              <a:solidFill>
                <a:srgbClr val="000000"/>
              </a:solidFill>
              <a:latin typeface="Calibri"/>
            </a:endParaRPr>
          </a:p>
          <a:p>
            <a:pPr marL="343080" indent="-343080">
              <a:lnSpc>
                <a:spcPct val="100000"/>
              </a:lnSpc>
              <a:buClr>
                <a:srgbClr val="ff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Comic Sans MS"/>
              </a:rPr>
              <a:t>ACQUISTI</a:t>
            </a:r>
            <a:endParaRPr b="0" lang="en-US" sz="1800" spc="-1" strike="noStrike">
              <a:solidFill>
                <a:srgbClr val="000000"/>
              </a:solidFill>
              <a:latin typeface="Calibri"/>
            </a:endParaRPr>
          </a:p>
          <a:p>
            <a:pPr marL="343080" indent="-343080">
              <a:lnSpc>
                <a:spcPct val="100000"/>
              </a:lnSpc>
              <a:buClr>
                <a:srgbClr val="ff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Comic Sans MS"/>
              </a:rPr>
              <a:t>ITINERARIO del VIAGGI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3" descr=""/>
          <p:cNvPicPr/>
          <p:nvPr/>
        </p:nvPicPr>
        <p:blipFill>
          <a:blip r:embed="rId1"/>
          <a:stretch/>
        </p:blipFill>
        <p:spPr>
          <a:xfrm>
            <a:off x="4643280" y="804960"/>
            <a:ext cx="4019760" cy="5806800"/>
          </a:xfrm>
          <a:prstGeom prst="rect">
            <a:avLst/>
          </a:prstGeom>
          <a:ln w="0">
            <a:noFill/>
          </a:ln>
        </p:spPr>
      </p:pic>
      <p:pic>
        <p:nvPicPr>
          <p:cNvPr id="62" name="Picture 2" descr=""/>
          <p:cNvPicPr/>
          <p:nvPr/>
        </p:nvPicPr>
        <p:blipFill>
          <a:blip r:embed="rId2"/>
          <a:stretch/>
        </p:blipFill>
        <p:spPr>
          <a:xfrm>
            <a:off x="547560" y="988920"/>
            <a:ext cx="3745080" cy="5764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ttangolo 1"/>
          <p:cNvSpPr/>
          <p:nvPr/>
        </p:nvSpPr>
        <p:spPr>
          <a:xfrm>
            <a:off x="250920" y="404640"/>
            <a:ext cx="8569080" cy="4817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Comic Sans MS"/>
              </a:rPr>
              <a:t>Introduzione</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 questo opuscolo sono contenute notizie relative allo Stato di Israele, uno stato del Vicino Oriente che si affaccia sul Mar Mediterraneo. La popolazione israeliana supera i sette milioni e mezzo di abitanti. È l'unico Stato a maggioranza ebraica al mondo, con una consistente minoranza di arabi.</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Comic Sans MS"/>
              </a:rPr>
              <a:t>Confini :</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sraele confina con l'Egitto e la Striscia di Gaza a Sud, la Giordania e la Cisgiordania a Est, il Libano a Nord e la Siria a Nord-Est.</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Comic Sans MS"/>
              </a:rPr>
              <a:t>Mari :</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unico mare che bagna Israele è il Mar Mediterraneo.</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3" descr=""/>
          <p:cNvPicPr/>
          <p:nvPr/>
        </p:nvPicPr>
        <p:blipFill>
          <a:blip r:embed="rId1"/>
          <a:stretch/>
        </p:blipFill>
        <p:spPr>
          <a:xfrm>
            <a:off x="900000" y="1790640"/>
            <a:ext cx="6985080" cy="4375080"/>
          </a:xfrm>
          <a:prstGeom prst="rect">
            <a:avLst/>
          </a:prstGeom>
          <a:ln w="0">
            <a:noFill/>
          </a:ln>
        </p:spPr>
      </p:pic>
      <p:sp>
        <p:nvSpPr>
          <p:cNvPr id="65" name="Rettangolo 5"/>
          <p:cNvSpPr/>
          <p:nvPr/>
        </p:nvSpPr>
        <p:spPr>
          <a:xfrm>
            <a:off x="971640" y="620640"/>
            <a:ext cx="6913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Comic Sans MS"/>
              </a:rPr>
              <a:t>BANDIER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ttangolo 2"/>
          <p:cNvSpPr/>
          <p:nvPr/>
        </p:nvSpPr>
        <p:spPr>
          <a:xfrm>
            <a:off x="2286000" y="1720800"/>
            <a:ext cx="4572000" cy="36601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Comic Sans MS"/>
              </a:rPr>
              <a:t>VALUTA</a:t>
            </a:r>
            <a:endParaRPr b="0" lang="en-US" sz="1800" spc="-1" strike="noStrike">
              <a:solidFill>
                <a:srgbClr val="000000"/>
              </a:solidFill>
              <a:latin typeface="Calibri"/>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a valuta corrente dello Stato di Israele è il NIS, New Israel Shekel, abbreviato in shekel, plurale shekelim in ebraico e shekels in inglese. In uno shekel vi sono 200 agorot, plurale di agora. Il denaro si presenta in banconote da 20, 50, 100 e 200 shekels, e in monete da 10, 5 e 1 shekels e 50, 10 e 5 agorot</a:t>
            </a:r>
            <a:endParaRPr b="0" lang="en-US" sz="1800" spc="-1" strike="noStrike">
              <a:solidFill>
                <a:srgbClr val="000000"/>
              </a:solidFill>
              <a:latin typeface="Calibri"/>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EURO equivale a  5,01997 schekels;</a:t>
            </a:r>
            <a:endParaRPr b="0" lang="en-US" sz="1800" spc="-1" strike="noStrike">
              <a:solidFill>
                <a:srgbClr val="000000"/>
              </a:solidFill>
              <a:latin typeface="Calibri"/>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schekels equivale a 0,19879 euro</a:t>
            </a:r>
            <a:endParaRPr b="0" lang="en-US" sz="1800" spc="-1" strike="noStrike">
              <a:solidFill>
                <a:srgbClr val="000000"/>
              </a:solidFill>
              <a:latin typeface="Calibri"/>
            </a:endParaRPr>
          </a:p>
        </p:txBody>
      </p:sp>
      <p:sp>
        <p:nvSpPr>
          <p:cNvPr id="67" name="Rettangolo 3"/>
          <p:cNvSpPr/>
          <p:nvPr/>
        </p:nvSpPr>
        <p:spPr>
          <a:xfrm>
            <a:off x="849240" y="1027080"/>
            <a:ext cx="7466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Comic Sans MS"/>
              </a:rPr>
              <a:t>INFORMAZIONI GENERAL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ttangolo 1"/>
          <p:cNvSpPr/>
          <p:nvPr/>
        </p:nvSpPr>
        <p:spPr>
          <a:xfrm>
            <a:off x="611280" y="404640"/>
            <a:ext cx="7993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Comic Sans MS"/>
              </a:rPr>
              <a:t>LINGUA</a:t>
            </a:r>
            <a:endParaRPr b="0" lang="en-US" sz="2800" spc="-1" strike="noStrike">
              <a:solidFill>
                <a:srgbClr val="000000"/>
              </a:solidFill>
              <a:latin typeface="Calibri"/>
            </a:endParaRPr>
          </a:p>
        </p:txBody>
      </p:sp>
      <p:sp>
        <p:nvSpPr>
          <p:cNvPr id="69" name="Rettangolo 2"/>
          <p:cNvSpPr/>
          <p:nvPr/>
        </p:nvSpPr>
        <p:spPr>
          <a:xfrm>
            <a:off x="539640" y="981000"/>
            <a:ext cx="8604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er lingua ebraica  si intendono sia l'ebraico biblico (o classico), sia l'ebraico moderno, lingua ufficiale dello Stato di Israele, che conta circa 7 milioni di locutori ; l'ebraico moderno, cresciuto in un contesto sociale e tecnologico molto diverso da quello antico, contiene molti elementi lessicali presi in prestito da altre lingue. L'ebraico è una lingua semitica e quindi parte della stessa famiglia che comprende anche le lingue araba, aramaica, amarica, tigrina, ed altre. Per numero di locutori, l'ebraico è la terza lingua di tale ceppo dopo l'arabo e l'amaric.</a:t>
            </a:r>
            <a:endParaRPr b="0" lang="en-US" sz="1800" spc="-1" strike="noStrike">
              <a:solidFill>
                <a:srgbClr val="000000"/>
              </a:solidFill>
              <a:latin typeface="Calibri"/>
            </a:endParaRPr>
          </a:p>
        </p:txBody>
      </p:sp>
      <p:pic>
        <p:nvPicPr>
          <p:cNvPr id="70" name="Picture 4" descr=""/>
          <p:cNvPicPr/>
          <p:nvPr/>
        </p:nvPicPr>
        <p:blipFill>
          <a:blip r:embed="rId1"/>
          <a:stretch/>
        </p:blipFill>
        <p:spPr>
          <a:xfrm>
            <a:off x="468360" y="3573360"/>
            <a:ext cx="8064360" cy="3097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ttangolo 1"/>
          <p:cNvSpPr/>
          <p:nvPr/>
        </p:nvSpPr>
        <p:spPr>
          <a:xfrm>
            <a:off x="900000" y="333360"/>
            <a:ext cx="784872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Comic Sans MS"/>
              </a:rPr>
              <a:t>                               </a:t>
            </a:r>
            <a:r>
              <a:rPr b="0" lang="en-US" sz="2800" spc="-1" strike="noStrike">
                <a:solidFill>
                  <a:srgbClr val="ff00ff"/>
                </a:solidFill>
                <a:latin typeface="Comic Sans MS"/>
              </a:rPr>
              <a:t>CLIMA</a:t>
            </a:r>
            <a:endParaRPr b="0" lang="en-US" sz="2800" spc="-1" strike="noStrike">
              <a:solidFill>
                <a:srgbClr val="000000"/>
              </a:solidFill>
              <a:latin typeface="Calibri"/>
            </a:endParaRPr>
          </a:p>
        </p:txBody>
      </p:sp>
      <p:sp>
        <p:nvSpPr>
          <p:cNvPr id="72" name="Rettangolo 2"/>
          <p:cNvSpPr/>
          <p:nvPr/>
        </p:nvSpPr>
        <p:spPr>
          <a:xfrm>
            <a:off x="539640" y="1052640"/>
            <a:ext cx="828036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ur essendo un paese di modeste dimensioni, vi sono discrete differenze climatiche da zona a zona, e le temperature variano molto, specie durante l'inverno.</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a costa ha un tipico clima mediterraneo, con estati lunghe, calde e asciutte e inverni freschi e piovosi. Il caldo è anche maggiore nella valle del Giordano, dove nel 1942 furono registrati 53,7 °C , un record per l'Asia. Sulle alture, invece, il clima è da fresco a freddo e umido, comprese precipitazioni nevose.</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 maggio a settembre le precipitazioni sono rare; da novembre a marzo il clima è relativamente umido.</a:t>
            </a:r>
            <a:endParaRPr b="0" lang="en-US" sz="1800" spc="-1" strike="noStrike">
              <a:solidFill>
                <a:srgbClr val="000000"/>
              </a:solidFill>
              <a:latin typeface="Calibri"/>
            </a:endParaRPr>
          </a:p>
        </p:txBody>
      </p:sp>
      <p:pic>
        <p:nvPicPr>
          <p:cNvPr id="73" name="Picture 2" descr=""/>
          <p:cNvPicPr/>
          <p:nvPr/>
        </p:nvPicPr>
        <p:blipFill>
          <a:blip r:embed="rId1"/>
          <a:stretch/>
        </p:blipFill>
        <p:spPr>
          <a:xfrm>
            <a:off x="2843280" y="3933720"/>
            <a:ext cx="4087800" cy="2743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ttangolo 1"/>
          <p:cNvSpPr/>
          <p:nvPr/>
        </p:nvSpPr>
        <p:spPr>
          <a:xfrm>
            <a:off x="395280" y="189000"/>
            <a:ext cx="8353440" cy="615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709ac"/>
                </a:solidFill>
                <a:latin typeface="Comic Sans MS"/>
              </a:rPr>
              <a:t>LA RELIGIONE</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In Israele la popolazione è così suddivisa:</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Ebrei 76,4%</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Musulmani 16%</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Arabi cristiani 1,7%Altri cristiani 0,4%Drusi 1,6%</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Altri (Bahai, ecc.): 3,9%</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EBRAISMO:</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Con il termine Ebraismo (derivato dal greco hebraïsmós; in ebraico: </a:t>
            </a:r>
            <a:r>
              <a:rPr b="0" lang="he-IL" sz="1800" spc="-1" strike="noStrike">
                <a:solidFill>
                  <a:srgbClr val="000000"/>
                </a:solidFill>
                <a:latin typeface="Comic Sans MS"/>
                <a:cs typeface="Arial"/>
              </a:rPr>
              <a:t>יהדות</a:t>
            </a:r>
            <a:r>
              <a:rPr b="0" lang="he-IL" sz="1800" spc="-1" strike="noStrike">
                <a:solidFill>
                  <a:srgbClr val="000000"/>
                </a:solidFill>
                <a:latin typeface="Comic Sans MS"/>
                <a:ea typeface="Arial"/>
              </a:rPr>
              <a:t>[?]) </a:t>
            </a:r>
            <a:r>
              <a:rPr b="0" lang="it-IT" sz="1800" spc="-1" strike="noStrike">
                <a:solidFill>
                  <a:srgbClr val="000000"/>
                </a:solidFill>
                <a:latin typeface="Comic Sans MS"/>
              </a:rPr>
              <a:t>si intende sia una religione monoteistica sia una tradizione culturale, entrambe diffuse in tutto il mondo.</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Come religione, l'odierno Ebraismo, detto anche Ebraismo rabbinico, è l'evoluzione della religione biblica, frutto, secondo la tradizione, dell'alleanza (berit) tra Dio, indicato con il nome di Yahweh, e il popolo ebraico.</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Pur avendo forse avuto inizi enoteistici o direttamente politeistici, si affermò ben presto come religione rigorosamente monoteistica, la prima di questo tipo ad essere documentata nel territorio delle popolazioni canane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1T18:45:24Z</dcterms:created>
  <dc:creator>Marzano</dc:creator>
  <dc:description/>
  <dc:language>en-US</dc:language>
  <cp:lastModifiedBy>Marzano</cp:lastModifiedBy>
  <dcterms:modified xsi:type="dcterms:W3CDTF">2011-08-23T10:35:44Z</dcterms:modified>
  <cp:revision>11</cp:revision>
  <dc:subject/>
  <dc:title>Diapositiva 1</dc:title>
</cp:coreProperties>
</file>