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524-DDFA-4822-ABE1-78D2A387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A06-5EEC-4874-A027-11FB4CB0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6B6-3E70-4CBC-865C-638D783C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D890-843E-4310-B1A2-79A2984C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EA40A-5CD2-4890-8120-9509E179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76EEA-7D0A-42FB-9FB1-55646186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FD3C2-EAFB-4CF9-AEF8-3D7AE4DC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B7AB0-F9F6-44DE-95DA-DCC54D17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CB24A-A72F-4C1A-83CC-B3CFB760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CD818-6B5A-45B7-945F-AD2134C4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5DA2C-8FD8-43AE-82B9-ACE36793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A8B-E809-4F57-9673-60A996B8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41AEE-DE65-4FF9-B2B3-19D71D51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238CE-0057-472D-9F45-8AE0C51F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B8225-6757-48EF-8AB8-2487291F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90FFE-4920-4466-939C-26845FDD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CC669-038F-4679-96F2-3529A5C0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CC5-4AE9-48B9-B699-026D87B5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753-E331-4150-A637-681603FE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B8D-BC24-49D1-A4A3-74FC112D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D05-9B9A-4512-A549-5F8542D3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9CE-3A3F-4F0F-B983-4584D9EE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14F-84F6-4648-9285-328CCA24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A51-297A-4118-8849-06212102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6ABD-F5E6-4B22-90D4-3436A8787B2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AFD6-D8B9-4F2A-9F82-3DE96E0D8490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G:/poseidon/viaggio%20israele.pptx#Slide 1" TargetMode="External"/><Relationship Id="rId2" Type="http://schemas.openxmlformats.org/officeDocument/2006/relationships/hyperlink" Target="file:///viaggio%20israele_M.ppt" TargetMode="External"/><Relationship Id="rId3" Type="http://schemas.openxmlformats.org/officeDocument/2006/relationships/hyperlink" Target="file:///Ebrei.pptx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ctangle 2" descr=""/>
          <p:cNvPicPr/>
          <p:nvPr/>
        </p:nvPicPr>
        <p:blipFill>
          <a:blip r:embed="rId1"/>
          <a:stretch/>
        </p:blipFill>
        <p:spPr>
          <a:xfrm>
            <a:off x="457200" y="291960"/>
            <a:ext cx="8229600" cy="1908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PIANO NAZIONALE POSEIDON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PROGETTO DI FORMAZIONE DOCENTI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di ITALIANO L1,ITALIANO L2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LINGUE STRANIERE E LINGUE CLASSICHE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POSEIDON PIEMONTE 2010-2011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GRUPPO DI PROGETTAZIONE TORINO S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Ordine di scuola:                                                         Lingu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cuola secondaria di I grado                                      Italiano L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Italiano L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Corsist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Francesca Marzano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ahoma"/>
              </a:rPr>
              <a:t>Valutazio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Simulazione prova inval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Brano tratto da </a:t>
            </a:r>
            <a:r>
              <a:rPr b="0" i="1" lang="it-IT" sz="3200" spc="-1" strike="noStrike">
                <a:solidFill>
                  <a:srgbClr val="ffcc00"/>
                </a:solidFill>
                <a:latin typeface="Tahoma"/>
              </a:rPr>
              <a:t>I viaggi di Gulliver : 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prova di comprensione e quesiti di grammat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Gulliver nella terra dei Lillipuzian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Produzione scritta: </a:t>
            </a:r>
            <a:r>
              <a:rPr b="0" i="1" lang="it-IT" sz="1800" spc="-1" strike="noStrike" u="sng">
                <a:solidFill>
                  <a:srgbClr val="ffcc00"/>
                </a:solidFill>
                <a:uFillTx/>
                <a:latin typeface="Tahoma"/>
              </a:rPr>
              <a:t>Immagina che un extraterrestre atterri sul nostro pianeta. A parer tuo quali tra i nostri conflitti gli sembrerebbero più assurdi e in  che termini li descriverebbe?  Cerca di esprimere, in una o più pagine, lo sbalordimento di un gigante venuto dallo spazio di fronte ai grandi contrasti che ci dividono gli uni dagli altri e per i  quali spesso si arriva ad uccider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985040" y="166680"/>
            <a:ext cx="28404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ahoma"/>
              </a:rPr>
              <a:t>Autovalutazio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000"/>
                </a:solidFill>
                <a:latin typeface="Tahoma"/>
              </a:rPr>
              <a:t>Quale libro/film che hai letto/visto ti è piaciuto di più? Perché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000"/>
                </a:solidFill>
                <a:latin typeface="Tahoma"/>
              </a:rPr>
              <a:t>Quale è stato il più difficile per ciò che riguarda la comprensio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000"/>
                </a:solidFill>
                <a:latin typeface="Tahoma"/>
              </a:rPr>
              <a:t>Sono stati necessari gli interventi dell’insegnant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000"/>
                </a:solidFill>
                <a:latin typeface="Tahoma"/>
              </a:rPr>
              <a:t>Quali sono le tue conclusioni in merito al percorso effettua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Tahoma"/>
              </a:rPr>
              <a:t>Schede Poseidon di riferiment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Topoi e temi lettera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a centralità del testo e la didat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Didattica della scrit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viluppo della competenza lessic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a valutazione degli apprendimenti linguisti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Identità e diversità: problematizzazione attraverso i te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8960" y="2742840"/>
            <a:ext cx="6553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Tematizzazione del problema mediant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giochi di ruolo e attività di </a:t>
            </a:r>
            <a:r>
              <a:rPr b="1" i="1" lang="it-IT" sz="1800" spc="-1" strike="noStrike">
                <a:solidFill>
                  <a:srgbClr val="ffcc00"/>
                </a:solidFill>
                <a:latin typeface="Tahoma"/>
              </a:rPr>
              <a:t>ice-break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Lettura, analisi e comprensione di test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Produzione di testi a tema (vignette, film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laboratorio teatrale) incentrati sul punto d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vis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Verifica finale di comprensione testuale su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modello di prove Inval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Il tema del diverso nella letteratura: gli Ebre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Step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 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- problematizzazione della diversit</a:t>
            </a:r>
            <a:r>
              <a:rPr b="0" lang="it-IT" sz="3200" spc="-1" strike="noStrike">
                <a:solidFill>
                  <a:srgbClr val="ffcc00"/>
                </a:solidFill>
                <a:latin typeface="Arial"/>
                <a:ea typeface="宋体"/>
              </a:rPr>
              <a:t>à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: giochi in classe che aiutano a fare i conti con le tante differenze che esistono a partire da quella di gene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 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- lettura </a:t>
            </a:r>
            <a:r>
              <a:rPr b="0" i="1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Il razzismo spiegato a mia figlia, 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Tahar Ben Jelloun: lavoro di comprensione sul testo (</a:t>
            </a:r>
            <a:r>
              <a:rPr b="0" i="1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Chi </a:t>
            </a:r>
            <a:r>
              <a:rPr b="0" i="1" lang="it-IT" sz="3200" spc="-1" strike="noStrike">
                <a:solidFill>
                  <a:srgbClr val="ffcc00"/>
                </a:solidFill>
                <a:latin typeface="Arial"/>
                <a:ea typeface="宋体"/>
              </a:rPr>
              <a:t>è</a:t>
            </a:r>
            <a:r>
              <a:rPr b="0" i="1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 il diverso?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ahoma"/>
              </a:rPr>
              <a:t>Le tradizio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000"/>
                </a:solidFill>
                <a:latin typeface="Tahoma"/>
              </a:rPr>
              <a:t>Step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000"/>
                </a:solidFill>
                <a:latin typeface="Tahoma"/>
              </a:rPr>
              <a:t>Visione del film Train de vi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000"/>
                </a:solidFill>
                <a:latin typeface="Tahoma"/>
              </a:rPr>
              <a:t>Obiettivi: cogliere attraverso la visione del film le peculiarità delle cultura ebraica (kasher, purim, jiddish, zuccotto, stella di david, candelabro a sette bracci: elementi presenti nel film che rimandano a tradizioni ebraich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ahoma"/>
              </a:rPr>
              <a:t>La stor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000"/>
                </a:solidFill>
                <a:latin typeface="Tahoma"/>
                <a:ea typeface="宋体"/>
              </a:rPr>
              <a:t>Step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000"/>
                </a:solidFill>
                <a:latin typeface="Tahoma"/>
                <a:ea typeface="宋体"/>
              </a:rPr>
              <a:t>   </a:t>
            </a:r>
            <a:r>
              <a:rPr b="0" lang="it-IT" sz="3200" spc="-1" strike="noStrike">
                <a:solidFill>
                  <a:srgbClr val="ffc000"/>
                </a:solidFill>
                <a:latin typeface="Tahoma"/>
                <a:ea typeface="宋体"/>
              </a:rPr>
              <a:t>Profilo della  storia degli Ebrei (dalla diaspora all</a:t>
            </a:r>
            <a:r>
              <a:rPr b="0" lang="it-IT" sz="3200" spc="-1" strike="noStrike">
                <a:solidFill>
                  <a:srgbClr val="ffc000"/>
                </a:solidFill>
                <a:latin typeface="Arial"/>
                <a:ea typeface="宋体"/>
              </a:rPr>
              <a:t>’</a:t>
            </a:r>
            <a:r>
              <a:rPr b="0" lang="it-IT" sz="3200" spc="-1" strike="noStrike">
                <a:solidFill>
                  <a:srgbClr val="ffc000"/>
                </a:solidFill>
                <a:latin typeface="Tahoma"/>
                <a:ea typeface="宋体"/>
              </a:rPr>
              <a:t>olocausto alla creazione dello Stato di Israele alla questione arabo-israeliana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000"/>
                </a:solidFill>
                <a:latin typeface="Tahoma"/>
                <a:ea typeface="宋体"/>
              </a:rPr>
              <a:t>   </a:t>
            </a:r>
            <a:r>
              <a:rPr b="0" lang="it-IT" sz="3200" spc="-1" strike="noStrike">
                <a:solidFill>
                  <a:srgbClr val="ffc000"/>
                </a:solidFill>
                <a:latin typeface="Tahoma"/>
                <a:ea typeface="宋体"/>
              </a:rPr>
              <a:t>Obiettivi: produzione mappe e schemi riassuntiv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ahoma"/>
              </a:rPr>
              <a:t>Il viagg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  <a:ea typeface="宋体"/>
              </a:rPr>
              <a:t>  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Step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  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Organizzare un viaggi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fcc00"/>
                </a:solidFill>
                <a:uFillTx/>
                <a:latin typeface="Tahoma"/>
                <a:ea typeface="宋体"/>
                <a:hlinkClick r:id="rId1"/>
              </a:rPr>
              <a:t>  </a:t>
            </a:r>
            <a:r>
              <a:rPr b="0" lang="it-IT" sz="3200" spc="-1" strike="noStrike" u="sng">
                <a:solidFill>
                  <a:srgbClr val="ffcc00"/>
                </a:solidFill>
                <a:uFillTx/>
                <a:latin typeface="Tahoma"/>
                <a:ea typeface="宋体"/>
                <a:hlinkClick r:id="rId2"/>
              </a:rPr>
              <a:t>Stato di Israe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  </a:t>
            </a:r>
            <a:r>
              <a:rPr b="0" lang="it-IT" sz="3200" spc="-1" strike="noStrike" u="sng">
                <a:solidFill>
                  <a:srgbClr val="ffcc00"/>
                </a:solidFill>
                <a:uFillTx/>
                <a:latin typeface="Tahoma"/>
                <a:ea typeface="宋体"/>
                <a:hlinkClick r:id="rId3"/>
              </a:rPr>
              <a:t>Campi di concentramen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quand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perch</a:t>
            </a:r>
            <a:r>
              <a:rPr b="0" lang="it-IT" sz="3200" spc="-1" strike="noStrike">
                <a:solidFill>
                  <a:srgbClr val="ffcc00"/>
                </a:solidFill>
                <a:latin typeface="Arial"/>
                <a:ea typeface="宋体"/>
              </a:rPr>
              <a:t>é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 (le motivazion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come (mezzi, costi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cosa ved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ahoma"/>
              </a:rPr>
              <a:t>Il punto di vis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Step 4 L'amico ritrov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L</a:t>
            </a:r>
            <a:r>
              <a:rPr b="0" i="1" lang="it-IT" sz="3200" spc="-1" strike="noStrike">
                <a:solidFill>
                  <a:srgbClr val="ffcc00"/>
                </a:solidFill>
                <a:latin typeface="Verdana"/>
                <a:ea typeface="宋体"/>
              </a:rPr>
              <a:t>’</a:t>
            </a:r>
            <a:r>
              <a:rPr b="0" i="1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amico ritrov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Lettura integrale del lib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Produzione scheda di valutazione/interpretazione: breve riassunto, personaggi principali, tempo e luogo della storia, narratore, temi tratta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ahoma"/>
                <a:ea typeface="宋体"/>
              </a:rPr>
              <a:t>Essere l</a:t>
            </a:r>
            <a:r>
              <a:rPr b="0" lang="it-IT" sz="4000" spc="-1" strike="noStrike">
                <a:solidFill>
                  <a:srgbClr val="ff0000"/>
                </a:solidFill>
                <a:latin typeface="Arial"/>
                <a:ea typeface="宋体"/>
              </a:rPr>
              <a:t>’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  <a:ea typeface="宋体"/>
              </a:rPr>
              <a:t>altro: empatia e immaginazione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Step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Visione del film: </a:t>
            </a:r>
            <a:r>
              <a:rPr b="0" i="1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Il bambino con il pigiama a rig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  <a:ea typeface="宋体"/>
              </a:rPr>
              <a:t>Lettura integrale del libro e produzione relativa scheda di valutazione-interpretazione: breve riassunto, personaggi principali, tempo e luogo della storia, narratore, temi tratta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a</cp:lastModifiedBy>
  <dcterms:modified xsi:type="dcterms:W3CDTF">2011-09-06T18:52:02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