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F677-C32E-448B-B59A-C74FC8275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E024-0BF1-4152-9DDD-B4B39B94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3133-7BBD-4FBF-983B-5738B2106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708E-DB19-4D0C-9F8E-5F6DBCB21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8415-5853-4F03-8C77-9AB3A69A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49C4-C2B4-4D2C-A228-F80F09CF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CA51-20CC-43C8-9A96-FA053761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6687-E392-4E9F-B633-D8128E66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40E0-3380-465B-821C-B60DB141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A502-93B7-4C92-B166-486B2759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70A3-78EB-4971-8FCB-E9EC929B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C659-F60C-4D91-9F0A-F4934422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E87F-51BD-4010-9250-2BD9C6192E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IANO NAZIONALE POSEIDON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ROGETTO DI FORMAZIONE DOCENTI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di ITALIANO L1,ITALIANO L2, LINGUE STRANIERE E LINGUE CLASSICHE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OSEIDON PIEMONTE 2010-2011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GRUPPO DI PROGETTAZIONE TORINO SUD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alibri"/>
              </a:rPr>
              <a:t>DA TESTO A TES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alibri"/>
              </a:rPr>
              <a:t>LA TRADUZIONE ENDOLINGUIST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orsista: Maria Luisa Codigno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PROGETTAZIONE DI INTERVENTI IN CLAS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PERIMENTAZIONE CON GLI STUDENT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uola secondaria di I grad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i terz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ttangolo 7"/>
          <p:cNvSpPr/>
          <p:nvPr/>
        </p:nvSpPr>
        <p:spPr>
          <a:xfrm>
            <a:off x="6215040" y="4429080"/>
            <a:ext cx="2286000" cy="71460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sto letter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ttangolo 8"/>
          <p:cNvSpPr/>
          <p:nvPr/>
        </p:nvSpPr>
        <p:spPr>
          <a:xfrm>
            <a:off x="6215040" y="5429160"/>
            <a:ext cx="2286000" cy="571680"/>
          </a:xfrm>
          <a:prstGeom prst="rect">
            <a:avLst/>
          </a:prstGeom>
          <a:solidFill>
            <a:srgbClr val="99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om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DIAZIONE ENDOLINGUIS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f81bd"/>
                </a:solidFill>
                <a:latin typeface="Calibri"/>
              </a:rPr>
              <a:t>SCHEDE  di  RIFERIMENTO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Didattica della mediazione linguist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La didattica della lettura: comprensione e riscrittura dei te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Progettare e valutare per competenze nell’are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La riflessione grammaticale nell’apprendimento delle ling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Lo sviluppo delle competenze semantico-lessica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714920" y="1643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ITALIANO L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 rot="819600">
            <a:off x="5376600" y="3049560"/>
            <a:ext cx="2504880" cy="2276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f81bd"/>
                </a:solidFill>
                <a:latin typeface="Calibri"/>
              </a:rPr>
              <a:t>La parafras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roccio al tes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ttura delle domande-gui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duzione di una griglia di parafrasi e spiegazione del tes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isi degli erro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duzione di una griglia di autovalutazi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ergamena 2 5"/>
          <p:cNvSpPr/>
          <p:nvPr/>
        </p:nvSpPr>
        <p:spPr>
          <a:xfrm>
            <a:off x="6572160" y="5572080"/>
            <a:ext cx="2071800" cy="64296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arafr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2960" y="99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Calibri"/>
              </a:rPr>
              <a:t>LAVORO DI GRUPP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28840" y="2214720"/>
            <a:ext cx="64008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ANALISI DEL TESTO E PARAFRAS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 rot="786600">
            <a:off x="5783040" y="3789360"/>
            <a:ext cx="2158920" cy="2114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ttangolo 26"/>
          <p:cNvSpPr/>
          <p:nvPr/>
        </p:nvSpPr>
        <p:spPr>
          <a:xfrm>
            <a:off x="500040" y="500040"/>
            <a:ext cx="400068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ddivisione in grup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ttangolo 27"/>
          <p:cNvSpPr/>
          <p:nvPr/>
        </p:nvSpPr>
        <p:spPr>
          <a:xfrm>
            <a:off x="3357720" y="1571760"/>
            <a:ext cx="400032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ttura domande gui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ttangolo 29"/>
          <p:cNvSpPr/>
          <p:nvPr/>
        </p:nvSpPr>
        <p:spPr>
          <a:xfrm>
            <a:off x="500040" y="2643120"/>
            <a:ext cx="200016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nfro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ttangolo 30"/>
          <p:cNvSpPr/>
          <p:nvPr/>
        </p:nvSpPr>
        <p:spPr>
          <a:xfrm>
            <a:off x="2714760" y="3357720"/>
            <a:ext cx="200016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arafr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reccia circolare in giù 31"/>
          <p:cNvSpPr/>
          <p:nvPr/>
        </p:nvSpPr>
        <p:spPr>
          <a:xfrm rot="2284800">
            <a:off x="4509720" y="795240"/>
            <a:ext cx="1571760" cy="714600"/>
          </a:xfrm>
          <a:custGeom>
            <a:avLst/>
            <a:gdLst>
              <a:gd name="textAreaLeft" fmla="*/ 325800 w 1571760"/>
              <a:gd name="textAreaRight" fmla="*/ 1156680 w 1571760"/>
              <a:gd name="textAreaTop" fmla="*/ 95760 h 714600"/>
              <a:gd name="textAreaBottom" fmla="*/ 618840 h 714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959" hR="21600" stAng="10800000" swAng="5400000"/>
                <a:lnTo>
                  <a:pt x="11414" y="0"/>
                </a:lnTo>
                <a:arcTo wR="8959" hR="21600" stAng="-5400000" swAng="3485831"/>
                <a:lnTo>
                  <a:pt x="21316" y="16200"/>
                </a:lnTo>
                <a:lnTo>
                  <a:pt x="19146" y="21600"/>
                </a:lnTo>
                <a:lnTo>
                  <a:pt x="16407" y="16200"/>
                </a:lnTo>
                <a:lnTo>
                  <a:pt x="17634" y="16200"/>
                </a:lnTo>
                <a:arcTo wR="8959" hR="21600" stAng="-1914169" swAng="-3288825"/>
                <a:lnTo>
                  <a:pt x="10187" y="204"/>
                </a:lnTo>
                <a:arcTo wR="8959" hR="21600" stAng="-5597007" swAng="-5202993"/>
                <a:close/>
              </a:path>
              <a:path fill="darkenLess" w="21600" h="21600">
                <a:moveTo>
                  <a:pt x="0" y="21600"/>
                </a:moveTo>
                <a:arcTo wR="8959" hR="21600" stAng="10800000" swAng="5400000"/>
                <a:lnTo>
                  <a:pt x="8959" y="0"/>
                </a:lnTo>
                <a:arcTo wR="8959" hR="21600" stAng="-5400000" swAng="197007"/>
                <a:lnTo>
                  <a:pt x="10187" y="204"/>
                </a:lnTo>
                <a:arcTo wR="8959" hR="21600" stAng="-5597007" swAng="-5202993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Freccia in giù 37"/>
          <p:cNvSpPr/>
          <p:nvPr/>
        </p:nvSpPr>
        <p:spPr>
          <a:xfrm>
            <a:off x="2786040" y="4143240"/>
            <a:ext cx="357120" cy="78588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reccia tridirezionale 39"/>
          <p:cNvSpPr/>
          <p:nvPr/>
        </p:nvSpPr>
        <p:spPr>
          <a:xfrm rot="10506000">
            <a:off x="2368080" y="2418840"/>
            <a:ext cx="1497240" cy="8272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ttangolo 40"/>
          <p:cNvSpPr/>
          <p:nvPr/>
        </p:nvSpPr>
        <p:spPr>
          <a:xfrm>
            <a:off x="642960" y="4929120"/>
            <a:ext cx="250020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nalisi del tes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ttangolo 41"/>
          <p:cNvSpPr/>
          <p:nvPr/>
        </p:nvSpPr>
        <p:spPr>
          <a:xfrm>
            <a:off x="3643200" y="5214960"/>
            <a:ext cx="250056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utovalut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ttangolo 42"/>
          <p:cNvSpPr/>
          <p:nvPr/>
        </p:nvSpPr>
        <p:spPr>
          <a:xfrm>
            <a:off x="6215040" y="3286080"/>
            <a:ext cx="2500200" cy="85716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Valutazione del doc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25" descr=""/>
          <p:cNvPicPr/>
          <p:nvPr/>
        </p:nvPicPr>
        <p:blipFill>
          <a:blip r:embed="rId2"/>
          <a:stretch/>
        </p:blipFill>
        <p:spPr>
          <a:xfrm>
            <a:off x="6429240" y="4286160"/>
            <a:ext cx="2411640" cy="223380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ALISI DEL TES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ALISI GRAMMATIC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RENSIONE GENER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allout con freccia in su 6"/>
          <p:cNvSpPr/>
          <p:nvPr/>
        </p:nvSpPr>
        <p:spPr>
          <a:xfrm rot="1308600">
            <a:off x="1064880" y="2646360"/>
            <a:ext cx="2562120" cy="1225440"/>
          </a:xfrm>
          <a:prstGeom prst="upArrowCallout">
            <a:avLst>
              <a:gd name="adj1" fmla="val 24995"/>
              <a:gd name="adj2" fmla="val 25002"/>
              <a:gd name="adj3" fmla="val 25000"/>
              <a:gd name="adj4" fmla="val 700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Gramma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Callout con freccia in su 7"/>
          <p:cNvSpPr/>
          <p:nvPr/>
        </p:nvSpPr>
        <p:spPr>
          <a:xfrm rot="19992000">
            <a:off x="5654160" y="2401920"/>
            <a:ext cx="2649600" cy="1317600"/>
          </a:xfrm>
          <a:prstGeom prst="upArrowCallout">
            <a:avLst>
              <a:gd name="adj1" fmla="val 25008"/>
              <a:gd name="adj2" fmla="val 24997"/>
              <a:gd name="adj3" fmla="val 25000"/>
              <a:gd name="adj4" fmla="val 700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mprens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Group 5"/>
          <p:cNvGrpSpPr/>
          <p:nvPr/>
        </p:nvGrpSpPr>
        <p:grpSpPr>
          <a:xfrm>
            <a:off x="6357960" y="4357800"/>
            <a:ext cx="1928160" cy="2071080"/>
            <a:chOff x="6357960" y="4357800"/>
            <a:chExt cx="1928160" cy="2071080"/>
          </a:xfrm>
        </p:grpSpPr>
        <p:sp>
          <p:nvSpPr>
            <p:cNvPr id="74" name="Freeform 6"/>
            <p:cNvSpPr/>
            <p:nvPr/>
          </p:nvSpPr>
          <p:spPr>
            <a:xfrm>
              <a:off x="6966000" y="4501440"/>
              <a:ext cx="303480" cy="47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Group 7"/>
            <p:cNvGrpSpPr/>
            <p:nvPr/>
          </p:nvGrpSpPr>
          <p:grpSpPr>
            <a:xfrm>
              <a:off x="6357960" y="5159520"/>
              <a:ext cx="609480" cy="1202400"/>
              <a:chOff x="6357960" y="5159520"/>
              <a:chExt cx="609480" cy="1202400"/>
            </a:xfrm>
          </p:grpSpPr>
          <p:sp>
            <p:nvSpPr>
              <p:cNvPr id="76" name="Freeform 8"/>
              <p:cNvSpPr/>
              <p:nvPr/>
            </p:nvSpPr>
            <p:spPr>
              <a:xfrm>
                <a:off x="6495120" y="5159520"/>
                <a:ext cx="298800" cy="29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9"/>
              <p:cNvSpPr/>
              <p:nvPr/>
            </p:nvSpPr>
            <p:spPr>
              <a:xfrm>
                <a:off x="6612840" y="5466960"/>
                <a:ext cx="241920" cy="40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0"/>
              <p:cNvSpPr/>
              <p:nvPr/>
            </p:nvSpPr>
            <p:spPr>
              <a:xfrm>
                <a:off x="6357960" y="5337720"/>
                <a:ext cx="306720" cy="281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1"/>
              <p:cNvSpPr/>
              <p:nvPr/>
            </p:nvSpPr>
            <p:spPr>
              <a:xfrm>
                <a:off x="6736320" y="5805000"/>
                <a:ext cx="193680" cy="520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2"/>
              <p:cNvSpPr/>
              <p:nvPr/>
            </p:nvSpPr>
            <p:spPr>
              <a:xfrm>
                <a:off x="6590160" y="5789160"/>
                <a:ext cx="164160" cy="572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3"/>
              <p:cNvSpPr/>
              <p:nvPr/>
            </p:nvSpPr>
            <p:spPr>
              <a:xfrm>
                <a:off x="6744240" y="5177880"/>
                <a:ext cx="223200" cy="369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Group 14"/>
            <p:cNvGrpSpPr/>
            <p:nvPr/>
          </p:nvGrpSpPr>
          <p:grpSpPr>
            <a:xfrm>
              <a:off x="7414560" y="4357800"/>
              <a:ext cx="871560" cy="2071080"/>
              <a:chOff x="7414560" y="4357800"/>
              <a:chExt cx="871560" cy="2071080"/>
            </a:xfrm>
          </p:grpSpPr>
          <p:sp>
            <p:nvSpPr>
              <p:cNvPr id="83" name="Freeform 15"/>
              <p:cNvSpPr/>
              <p:nvPr/>
            </p:nvSpPr>
            <p:spPr>
              <a:xfrm>
                <a:off x="7821000" y="4753440"/>
                <a:ext cx="323640" cy="70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16"/>
              <p:cNvSpPr/>
              <p:nvPr/>
            </p:nvSpPr>
            <p:spPr>
              <a:xfrm>
                <a:off x="7946640" y="4770720"/>
                <a:ext cx="339480" cy="663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Freeform 17"/>
              <p:cNvSpPr/>
              <p:nvPr/>
            </p:nvSpPr>
            <p:spPr>
              <a:xfrm>
                <a:off x="7677000" y="5340600"/>
                <a:ext cx="294120" cy="1048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Freeform 18"/>
              <p:cNvSpPr/>
              <p:nvPr/>
            </p:nvSpPr>
            <p:spPr>
              <a:xfrm>
                <a:off x="7961400" y="5362200"/>
                <a:ext cx="145800" cy="1066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Freeform 19"/>
              <p:cNvSpPr/>
              <p:nvPr/>
            </p:nvSpPr>
            <p:spPr>
              <a:xfrm>
                <a:off x="7627320" y="4357800"/>
                <a:ext cx="389520" cy="387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Freeform 20"/>
              <p:cNvSpPr/>
              <p:nvPr/>
            </p:nvSpPr>
            <p:spPr>
              <a:xfrm>
                <a:off x="7414560" y="4734720"/>
                <a:ext cx="498240" cy="383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Group 21"/>
            <p:cNvGrpSpPr/>
            <p:nvPr/>
          </p:nvGrpSpPr>
          <p:grpSpPr>
            <a:xfrm>
              <a:off x="6368040" y="4412160"/>
              <a:ext cx="741240" cy="1261080"/>
              <a:chOff x="6368040" y="4412160"/>
              <a:chExt cx="741240" cy="1261080"/>
            </a:xfrm>
          </p:grpSpPr>
          <p:sp>
            <p:nvSpPr>
              <p:cNvPr id="90" name="Freeform 22"/>
              <p:cNvSpPr/>
              <p:nvPr/>
            </p:nvSpPr>
            <p:spPr>
              <a:xfrm>
                <a:off x="6644160" y="4726080"/>
                <a:ext cx="465120" cy="167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Freeform 23"/>
              <p:cNvSpPr/>
              <p:nvPr/>
            </p:nvSpPr>
            <p:spPr>
              <a:xfrm>
                <a:off x="6520680" y="4711680"/>
                <a:ext cx="240120" cy="443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Freeform 24"/>
              <p:cNvSpPr/>
              <p:nvPr/>
            </p:nvSpPr>
            <p:spPr>
              <a:xfrm>
                <a:off x="6368040" y="4736880"/>
                <a:ext cx="222840" cy="356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Freeform 25"/>
              <p:cNvSpPr/>
              <p:nvPr/>
            </p:nvSpPr>
            <p:spPr>
              <a:xfrm>
                <a:off x="6509520" y="4412160"/>
                <a:ext cx="346680" cy="29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Freeform 26"/>
              <p:cNvSpPr/>
              <p:nvPr/>
            </p:nvSpPr>
            <p:spPr>
              <a:xfrm>
                <a:off x="6395040" y="5068800"/>
                <a:ext cx="228600" cy="604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Freeform 27"/>
              <p:cNvSpPr/>
              <p:nvPr/>
            </p:nvSpPr>
            <p:spPr>
              <a:xfrm>
                <a:off x="6589800" y="5078160"/>
                <a:ext cx="327240" cy="492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143000" y="5716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RISCRITTURA e AUTOVALUTAZIO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 rot="20545800">
            <a:off x="1185840" y="2338200"/>
            <a:ext cx="2641680" cy="2585880"/>
          </a:xfrm>
          <a:prstGeom prst="rect">
            <a:avLst/>
          </a:prstGeom>
          <a:ln w="0">
            <a:noFill/>
          </a:ln>
        </p:spPr>
      </p:pic>
      <p:sp>
        <p:nvSpPr>
          <p:cNvPr id="98" name="CasellaDiTesto 3"/>
          <p:cNvSpPr/>
          <p:nvPr/>
        </p:nvSpPr>
        <p:spPr>
          <a:xfrm>
            <a:off x="4357800" y="2857680"/>
            <a:ext cx="4143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lavoro di riscrittura e autovalutazione non sono stati completati per mancanza di tempo.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6T15:18:02Z</dcterms:created>
  <dc:creator>marilu</dc:creator>
  <dc:description/>
  <dc:language>en-US</dc:language>
  <cp:lastModifiedBy>Ada</cp:lastModifiedBy>
  <dcterms:modified xsi:type="dcterms:W3CDTF">2011-07-17T18:19:43Z</dcterms:modified>
  <cp:revision>18</cp:revision>
  <dc:subject/>
  <dc:title>PIANO NAZIONALE POSEIDON PROGETTO DI FORMAZIONE DOCENTI di ITALIANO L1,ITALIANO L2, LINGUE STRANIERE E LINGUE CLASSICHE</dc:title>
</cp:coreProperties>
</file>