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C0A-EA19-498B-81C1-78C03FD404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6248-7EF5-4370-BE80-77E329BE4F6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2F8-C430-404B-A6EA-D1DA62E1B34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4D2-6C47-4B96-A028-2A200442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0D8-5B86-4DB6-A8D9-9B171959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D91-8A6A-4FB6-BC5F-63C20002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2B2-85FF-4C0F-B583-2AE64CD1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03F1-9DDC-4DA2-B0F8-4C332A93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974A-AF3A-48C2-B145-D046D0E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570-7D33-4E42-AF0B-EE7CB53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66D1-4750-4A1F-9CDA-7215CAF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6908-6561-4CE4-B5A4-9D931E4C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A8C-B3BE-4AA4-A4BB-05F22BC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9E7-5FE0-459A-ADD8-A83618D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1BD-C3A6-44C0-8DF1-0A6472DA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B48E-A5A8-454F-922E-52EF890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6E8B-E664-403A-B8F5-228D719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4352-050A-4A68-B79D-E1143CEA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2790-8320-437B-A169-970348E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040-259F-4B0A-A24C-27FAFAD3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C56-C05E-48C4-8791-BAA07D4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DF9-D425-4FEF-8EB0-33569C6D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71C-537C-4475-BD94-DDD60A7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07F-8997-40B4-AF20-355E233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9B7-6249-4F64-AEDF-9F835486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C46-FC47-415F-8B68-16F3925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ACA-4505-44C6-822C-2D35484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800-90FC-4F2F-90C8-E43719AB0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21A-1534-4060-BC89-A931300CF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tivazione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Scheda_Fallini.doc" TargetMode="External"/><Relationship Id="rId3" Type="http://schemas.openxmlformats.org/officeDocument/2006/relationships/hyperlink" Target="file:///Dante" TargetMode="External"/><Relationship Id="rId4" Type="http://schemas.openxmlformats.org/officeDocument/2006/relationships/hyperlink" Target="file:///Petrarca" TargetMode="External"/><Relationship Id="rId5" Type="http://schemas.openxmlformats.org/officeDocument/2006/relationships/hyperlink" Target="file:///testo3%20Boccaccio.doc" TargetMode="External"/><Relationship Id="rId6" Type="http://schemas.openxmlformats.org/officeDocument/2006/relationships/hyperlink" Target="file:///testo3%20Boccaccio.doc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21"/>
          <p:cNvSpPr txBox="1"/>
          <p:nvPr/>
        </p:nvSpPr>
        <p:spPr>
          <a:xfrm>
            <a:off x="755640" y="2205000"/>
            <a:ext cx="73152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 TESTO A TESTO:</a:t>
            </a:r>
            <a:endParaRPr b="0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TRADUZIONE ENDOLINGUISTICA</a:t>
            </a:r>
            <a:endParaRPr b="0" lang="en-US" sz="4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566100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s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lena 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Gabriella Fall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49360"/>
            <a:ext cx="82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IANO NAZIONALE POSEIDON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ROGETTO DI FORMAZIONE DOCENTI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 ITALIANO L1,ITALIANO L2, LINGUE STRANIERE E LINGUE CLASSICHE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OSEIDON PIEMONTE 2010-2011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RUPPO DI PROGETTAZIONE TORINO SUD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79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68360" y="436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dine di scu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472428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a d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condo grado bien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ia di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econdo grado trien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99320" y="43657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n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61720" y="4797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aliano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 scuola: il Liceo linguistico ex C.M. 27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lasse III interessata dal progetto appartiene alla sede centrale di una scuola che si articola su tre plessi dislocati in quartieri diversi di Torino e con un vasto bacino d’utenza che si estende oltre i confini della città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lasse comprende sei diverse nazionalità oltre a quella itali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457200"/>
            <a:ext cx="815364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ituazione di monolinguismo, invece, il sommario, il resoconto, la parafrasi e la semplificazione di testi orali o scritti rientrano a pieno titolo tra le attività di mediazione. L’utilizzo di queste pratiche, infatti, consente di stabilire o ri-stabilire un canale di comunicazione che è compromesso da un dislivello linguistico tra la fonte e il destinatario, o che è disturbato da fraintendimenti di tipo sociolinguistico o culturale. Ad esempio la spiegazione di testi specialistici di una disciplina o di un particolare o di un particolare uso linguistico […] implica operazioni di ‘traduzione’ di vocaboli ed espressioni, di riorganizzazione concettuale e riformulazione sintattica che rendano tali testi comprensibili a fruitori poco esper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’Ascenza, Curci, Didattica della mediazione linguistica, p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indi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727200"/>
            <a:ext cx="7924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ni attività di traduzione è una complessa operazione cognitiva: 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zione intertestual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ica , nel passaggio tra i testi (quello di partenza e quello di arrivo), attività di intensa lettura, comprensione e analisi, di ideazione e di riformulazione, di controllo e mantenimento dell’intenzione pragmatica, di ricerca semantica e stilistica; ogni attività di traduzione mette in moto attività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nitiv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altro livello (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al-and-error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solvin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cc.) che possono dare origine a lavori stimolanti, potenzialmente aperti ad una dimensione ludica in cui l’attività di ricerca e confronto tra più soluzioni conta tanto quanto il risultato finale, se non di pi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’Ascenza, Curci, Didattica della mediazione linguistica, p.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08240" y="605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4880" y="879480"/>
            <a:ext cx="7331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resta passivo davanti al testo ha poche speranze di trovarlo interes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ha poche conoscenze pregresse o non le usa per fare previsioni ha poche possibilità di cap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lettore che ha incamerato e strutturato poche conoscenze ha poche possibilità di farsene di nu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el, La didattica della lettura, comprensione e riscrittura di testi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indi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03640" y="476280"/>
            <a:ext cx="295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biettiv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901800" y="213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133720"/>
            <a:ext cx="41767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mprendere il testo po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parafrasare il testo po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4221000"/>
            <a:ext cx="5616720" cy="1297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struire un protocollo per la paraf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8ae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costruire un repertorio lessic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Britannic Bold"/>
              </a:rPr>
              <a:t>della lingua letter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4572000" y="2133720"/>
            <a:ext cx="44197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8ae"/>
                </a:solidFill>
                <a:latin typeface="Arial"/>
              </a:rPr>
              <a:t>  </a:t>
            </a:r>
            <a:r>
              <a:rPr b="1" lang="it-IT" sz="1800" spc="-1" strike="noStrike">
                <a:solidFill>
                  <a:srgbClr val="0068ae"/>
                </a:solidFill>
                <a:latin typeface="Arial"/>
              </a:rPr>
              <a:t>Lo sviluppo della competenza semantico-lessi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743200" y="304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hede Poseidon di rif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04920" y="914400"/>
            <a:ext cx="40384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Didattica della medi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ingu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9640" y="494172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50920" y="3645000"/>
            <a:ext cx="441936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 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a riflessione grammati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724280" y="4869000"/>
            <a:ext cx="44197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 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La didattica della lettur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comprensione e riscrittura dei testi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692360" y="260280"/>
            <a:ext cx="59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iferimenti teoric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557360"/>
            <a:ext cx="7993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 - Glossari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ell’Ascenza, Curci  : Didattica della mediazione linguistica- Schede di approfondime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Colombo: La riflessione grammaticale nell’apprendimento delle ling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Pallotti: Descrivere le lingue:quale metalinguaggio per un’educazione linguistica effica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Ambel: La didattica della lettura, comprensione e riscrittura dei test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Ducati (a cura di ): Lo sviluppo della competenza semantico-lessica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Inoltr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QCER per le Ling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Arial"/>
              </a:rPr>
              <a:t>L. Mariani : Verso un’educazione linguistica plurilingue e interculturale (ILSA – Anno 2010 . N.1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9"/>
          <p:cNvSpPr txBox="1"/>
          <p:nvPr/>
        </p:nvSpPr>
        <p:spPr>
          <a:xfrm>
            <a:off x="1905120" y="5335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 TESTO A TESTO: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TRADUZIONE ENDOLINGUISTICA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219320" y="1905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68ae"/>
                </a:solidFill>
                <a:latin typeface="Arial"/>
              </a:rPr>
              <a:t>Ragionando meco et io con lui </a:t>
            </a:r>
            <a:r>
              <a:rPr b="1" lang="it-IT" sz="2800" spc="-1" strike="noStrike">
                <a:solidFill>
                  <a:srgbClr val="0068ae"/>
                </a:solidFill>
                <a:latin typeface="Arial"/>
              </a:rPr>
              <a:t>ovvero parlare con gli autori di ieri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295280" y="28954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ito ai testi integrali e senza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pretazione collaborativa del sen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ssivo del tes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zione di una procedura operativa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ndere e riformulare il tes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isi contrastiva degli errori e rifless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te confronto con più paraf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ruzione di un repertorio lessicale 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fo-sintattico di rif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467480" y="2438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 motiv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ere più piacevole e graduale un percorso e sviluppare le capacità di applicare le competenze in contesti simili, ma via via più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comples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perare spazi per la comprensione e la rielaborazione del testo all’interno di una programmazione dedicata quasi esclusivamente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all’educazione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letterari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8080" y="1752480"/>
            <a:ext cx="717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e nuove tecnologie hanno cambiato non solo le modalità di comunicare i messaggi, ma anche il modo di elaborare, conservare e trasmettere la conoscenza: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imultane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anziché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equenzial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ine della linear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della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mpiutez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proprie del testo scritto,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veloc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tà anziché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entez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 Cambia anche il concetto di testo, sulla cui identità si fondano le nostre conoscenze linguistiche. (R. Simone in Amb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Il sapere del passato (che non è affatto da cestinare) e ancora gran parte di quello del presente si fonda sul testo scritto. Per accostarci al passato o con le forme più alte del sapere contemporaneo, dobbiamo quindi saper interagire con quel tipo di testo,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nza negare le nuove forme di comunicazione e di condivisione del sapere ma senza nemmeno volerle applicare ad  un contesto cui non apparteng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Le motivazio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 sperimentazione in class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a Dante a Boccacc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 Gabriella Fall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Classe III di liceo linguistic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Scheda di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sti utilizzati (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Dante, 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Petrar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Boccaccio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mpionatura di lavori degli stud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te a marg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sperimentazione in clas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Proemio dell’Iliad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Elena 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asse I superiore di II grado Amministrazione Finanza e Marke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cheda di proge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sti introduttivi di Baricco e De Crescen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sti dell’Iliade per la parafr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mpionatura di lavori degli stud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tovalutazione e veri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f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6:38Z</dcterms:created>
  <dc:creator>poseidon</dc:creator>
  <dc:description/>
  <dc:language>en-US</dc:language>
  <cp:lastModifiedBy>Ada</cp:lastModifiedBy>
  <dcterms:modified xsi:type="dcterms:W3CDTF">2011-07-17T18:22:28Z</dcterms:modified>
  <cp:revision>28</cp:revision>
  <dc:subject/>
  <dc:title>Diapositiva 1</dc:title>
</cp:coreProperties>
</file>